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067-3EE2-4BED-8D06-C3F35D2B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48C-DC10-40AF-B936-D80F5798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CE1-BA3E-46C2-ACCC-A8908AC7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144-66BF-4A47-AA65-B4299F99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4462-691B-4E1A-87F5-E226B6D7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F510-9371-4291-922B-303F59FE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980E-1992-4B5D-AF4E-FC345501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0272-13F1-498B-BB62-0F6D4E60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22C2-0993-4D7B-8C78-26D6798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4F94-2C1C-4E4F-9B07-3A160E30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7AEA-D672-4936-9809-3D8D700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528-89D9-4D49-9312-FF676F35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4EB7-08C1-4F2B-9AD0-46C01982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01AE-8C7D-44B3-B359-0E6F915D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16A3-5BD0-4F9C-92D1-1BA10B11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C94-0EF1-4AE9-BE5E-8EC56924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8EB7-226F-47D0-8E70-6EEBD215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471-4CF8-43DA-BA65-406520B8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F19-7575-4580-A110-787725F9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0EA-2F80-41FD-9081-FBAA381C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BA8-9125-4239-B646-E1D8B6FD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D14-72DD-46A5-AF40-CC48C2C3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626-3FBC-455C-AFE4-165A167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3D5-B084-46E1-A851-A0099DD1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DECA-67E0-4116-B494-9841DAE879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35C0-8B77-4C03-AFF4-298D2825AC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spu.unibel.by/teacher/Maliugin/Ancient1/Ludi/aegypt.htm" TargetMode="External"/><Relationship Id="rId2" Type="http://schemas.openxmlformats.org/officeDocument/2006/relationships/hyperlink" Target="http://www.bspu.unibel.by/teacher/Maliugin/Ancient1/Ludi/Pliopithecus.htm" TargetMode="External"/><Relationship Id="rId3" Type="http://schemas.openxmlformats.org/officeDocument/2006/relationships/hyperlink" Target="http://www.bspu.unibel.by/teacher/Maliugin/Ancient1/Ludi/proconsul.htm" TargetMode="External"/><Relationship Id="rId4" Type="http://schemas.openxmlformats.org/officeDocument/2006/relationships/hyperlink" Target="http://www.bspu.unibel.by/teacher/Maliugin/Ancient1/Ludi/afropithecus.htm" TargetMode="External"/><Relationship Id="rId5" Type="http://schemas.openxmlformats.org/officeDocument/2006/relationships/hyperlink" Target="http://www.bspu.unibel.by/teacher/Maliugin/Ancient1/Ludi/siva.htm" TargetMode="External"/><Relationship Id="rId6" Type="http://schemas.openxmlformats.org/officeDocument/2006/relationships/hyperlink" Target="http://www.bspu.unibel.by/teacher/Maliugin/Ancient1/Ludi/drio.htm" TargetMode="External"/><Relationship Id="rId7" Type="http://schemas.openxmlformats.org/officeDocument/2006/relationships/hyperlink" Target="http://www.bspu.unibel.by/teacher/Maliugin/Ancient1/Ludi/rama.htm" TargetMode="External"/><Relationship Id="rId8" Type="http://schemas.openxmlformats.org/officeDocument/2006/relationships/hyperlink" Target="http://www.bspu.unibel.by/teacher/Maliugin/Ancient1/Ludi/Pierolapithecus.htm" TargetMode="External"/><Relationship Id="rId9" Type="http://schemas.openxmlformats.org/officeDocument/2006/relationships/hyperlink" Target="http://www.bspu.unibel.by/teacher/Maliugin/Ancient1/Ludi/sahelantrobus.htm" TargetMode="External"/><Relationship Id="rId10" Type="http://schemas.openxmlformats.org/officeDocument/2006/relationships/hyperlink" Target="http://www.bspu.unibel.by/teacher/Maliugin/Ancient1/Ludi/orrorin.htm" TargetMode="External"/><Relationship Id="rId11" Type="http://schemas.openxmlformats.org/officeDocument/2006/relationships/hyperlink" Target="http://www.bspu.unibel.by/teacher/Maliugin/Ancient1/Ludi/kadobba.htm" TargetMode="External"/><Relationship Id="rId12" Type="http://schemas.openxmlformats.org/officeDocument/2006/relationships/hyperlink" Target="http://www.bspu.unibel.by/teacher/Maliugin/Ancient1/Ludi/ramidus.htm" TargetMode="External"/><Relationship Id="rId13" Type="http://schemas.openxmlformats.org/officeDocument/2006/relationships/hyperlink" Target="http://www.bspu.unibel.by/teacher/Maliugin/Ancient1/Ludi/anamensis.htm" TargetMode="External"/><Relationship Id="rId14" Type="http://schemas.openxmlformats.org/officeDocument/2006/relationships/hyperlink" Target="http://www.bspu.unibel.by/teacher/Maliugin/Ancient1/Ludi/afarensis.htm" TargetMode="External"/><Relationship Id="rId15" Type="http://schemas.openxmlformats.org/officeDocument/2006/relationships/hyperlink" Target="http://www.bspu.unibel.by/teacher/Maliugin/Ancient1/Ludi/Kenyanthropus.htm" TargetMode="External"/><Relationship Id="rId16" Type="http://schemas.openxmlformats.org/officeDocument/2006/relationships/hyperlink" Target="http://www.bspu.unibel.by/teacher/Maliugin/Ancient1/Ludi/bahrel.htm" TargetMode="External"/><Relationship Id="rId17" Type="http://schemas.openxmlformats.org/officeDocument/2006/relationships/hyperlink" Target="http://www.bspu.unibel.by/teacher/Maliugin/Ancient1/Ludi/africanus.htm" TargetMode="External"/><Relationship Id="rId18" Type="http://schemas.openxmlformats.org/officeDocument/2006/relationships/hyperlink" Target="http://www.bspu.unibel.by/teacher/Maliugin/Ancient1/Ludi/garhi.htm" TargetMode="External"/><Relationship Id="rId19" Type="http://schemas.openxmlformats.org/officeDocument/2006/relationships/hyperlink" Target="http://www.bspu.unibel.by/teacher/Maliugin/Ancient1/Ludi/aethiopicus.htm" TargetMode="External"/><Relationship Id="rId20" Type="http://schemas.openxmlformats.org/officeDocument/2006/relationships/hyperlink" Target="http://www.bspu.unibel.by/teacher/Maliugin/Ancient1/Ludi/boisei.htm" TargetMode="External"/><Relationship Id="rId21" Type="http://schemas.openxmlformats.org/officeDocument/2006/relationships/hyperlink" Target="http://www.bspu.unibel.by/teacher/Maliugin/Ancient1/Ludi/robustus.htm" TargetMode="External"/><Relationship Id="rId22" Type="http://schemas.openxmlformats.org/officeDocument/2006/relationships/hyperlink" Target="http://www.bspu.unibel.by/teacher/Maliugin/Ancient1/Ludi/habilis.htm" TargetMode="External"/><Relationship Id="rId23" Type="http://schemas.openxmlformats.org/officeDocument/2006/relationships/hyperlink" Target="http://www.bspu.unibel.by/teacher/Maliugin/Ancient1/Ludi/rudolfensis.htm" TargetMode="External"/><Relationship Id="rId24" Type="http://schemas.openxmlformats.org/officeDocument/2006/relationships/hyperlink" Target="http://www.bspu.unibel.by/teacher/Maliugin/Ancient1/Ludi/Georgicus.htm" TargetMode="External"/><Relationship Id="rId25" Type="http://schemas.openxmlformats.org/officeDocument/2006/relationships/hyperlink" Target="http://www.bspu.unibel.by/teacher/Maliugin/Ancient1/Ludi/Ergaster.htm" TargetMode="External"/><Relationship Id="rId26" Type="http://schemas.openxmlformats.org/officeDocument/2006/relationships/hyperlink" Target="http://www.bspu.unibel.by/teacher/Maliugin/Ancient1/Ludi/Erectus.htm" TargetMode="External"/><Relationship Id="rId27" Type="http://schemas.openxmlformats.org/officeDocument/2006/relationships/hyperlink" Target="http://www.bspu.unibel.by/teacher/Maliugin/Ancient1/Ludi/Antecessor.htm" TargetMode="External"/><Relationship Id="rId28" Type="http://schemas.openxmlformats.org/officeDocument/2006/relationships/hyperlink" Target="http://www.bspu.unibel.by/teacher/Maliugin/Ancient1/Ludi/telan.htm" TargetMode="External"/><Relationship Id="rId29" Type="http://schemas.openxmlformats.org/officeDocument/2006/relationships/hyperlink" Target="http://www.bspu.unibel.by/teacher/Maliugin/Ancient1/Ludi/Heidelbergensis.htm" TargetMode="External"/><Relationship Id="rId30" Type="http://schemas.openxmlformats.org/officeDocument/2006/relationships/hyperlink" Target="http://www.bspu.unibel.by/teacher/Maliugin/Ancient1/Ludi/sinan.htm" TargetMode="External"/><Relationship Id="rId31" Type="http://schemas.openxmlformats.org/officeDocument/2006/relationships/hyperlink" Target="http://www.bspu.unibel.by/teacher/Maliugin/Ancient1/Ludi/Pithecanthropus.htm" TargetMode="External"/><Relationship Id="rId32" Type="http://schemas.openxmlformats.org/officeDocument/2006/relationships/hyperlink" Target="http://www.bspu.unibel.by/teacher/Maliugin/Ancient1/Ludi/verteshel.htm" TargetMode="External"/><Relationship Id="rId33" Type="http://schemas.openxmlformats.org/officeDocument/2006/relationships/hyperlink" Target="http://www.bspu.unibel.by/teacher/Maliugin/Ancient1/Ludi/verteshel.htm" TargetMode="External"/><Relationship Id="rId34" Type="http://schemas.openxmlformats.org/officeDocument/2006/relationships/hyperlink" Target="http://www.bspu.unibel.by/teacher/Maliugin/Ancient1/Ludi/atlanthropus.htm" TargetMode="External"/><Relationship Id="rId35" Type="http://schemas.openxmlformats.org/officeDocument/2006/relationships/hyperlink" Target="http://www.bspu.unibel.by/teacher/Maliugin/Ancient1/Ludi/petralon.htm" TargetMode="External"/><Relationship Id="rId36" Type="http://schemas.openxmlformats.org/officeDocument/2006/relationships/hyperlink" Target="http://www.bspu.unibel.by/teacher/Maliugin/Ancient1/Ludi/petralon.htm" TargetMode="External"/><Relationship Id="rId37" Type="http://schemas.openxmlformats.org/officeDocument/2006/relationships/hyperlink" Target="http://www.bspu.unibel.by/teacher/Maliugin/Ancient1/Ludi/floresensis.htm" TargetMode="External"/><Relationship Id="rId38" Type="http://schemas.openxmlformats.org/officeDocument/2006/relationships/hyperlink" Target="http://www.bspu.unibel.by/teacher/Maliugin/Ancient1/Ludi/floresensis.htm" TargetMode="External"/><Relationship Id="rId39" Type="http://schemas.openxmlformats.org/officeDocument/2006/relationships/hyperlink" Target="http://www.bspu.unibel.by/teacher/Maliugin/Ancient1/Ludi/floresensis.htm" TargetMode="External"/><Relationship Id="rId40" Type="http://schemas.openxmlformats.org/officeDocument/2006/relationships/hyperlink" Target="http://www.bspu.unibel.by/teacher/Maliugin/Ancient1/Ludi/neandertal.htm" TargetMode="External"/><Relationship Id="rId41" Type="http://schemas.openxmlformats.org/officeDocument/2006/relationships/hyperlink" Target="http://www.bspu.unibel.by/teacher/Maliugin/Ancient1/Ludi/sapiens.htm" TargetMode="External"/><Relationship Id="rId42" Type="http://schemas.openxmlformats.org/officeDocument/2006/relationships/hyperlink" Target="http://www.bspu.unibel.by/teacher/Maliugin/Ancient1/Ludi/sapiens.htm" TargetMode="External"/><Relationship Id="rId43" Type="http://schemas.openxmlformats.org/officeDocument/2006/relationships/hyperlink" Target="http://www.bspu.unibel.by/teacher/Maliugin/Ancient1/Ludi/sapiens.htm" TargetMode="External"/><Relationship Id="rId44" Type="http://schemas.openxmlformats.org/officeDocument/2006/relationships/hyperlink" Target="http://www.bspu.unibel.by/teacher/Maliugin/Ancient1/Ludi/sapiens.htm" TargetMode="External"/><Relationship Id="rId45" Type="http://schemas.openxmlformats.org/officeDocument/2006/relationships/hyperlink" Target="http://www.bspu.unibel.by/teacher/Maliugin/Ancient1/Ludi/sapiens.htm" TargetMode="External"/><Relationship Id="rId4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74.125.79.101/translate_c?hl=ru&amp;sl=en&amp;u=http://dic.academic.ru/dic.nsf/cide/63080/extinct&amp;prev=/search%3Fq%3DAegyptopithecus%26hl%3Dru%26lr%3Dlang_ru%26newwindow%3D1%26client%3Dfirefox-a%26channel%3Ds%26rls%3Dorg.mozilla:ru:official%26sa%3DG&amp;usg=ALkJrhjkJC8J7nnwUwD03QCjN7V96t2jfA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851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волюция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446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рдипитек кадабб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35280" cy="435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03640" y="1700280"/>
            <a:ext cx="39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dipithecus kadab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двуногое 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итал в ле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6358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56000" y="1197000"/>
            <a:ext cx="4788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диету, весьма отлична от гоминидн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 строению черепа близок к шимпан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ямохожд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сти руки показывают смесь как обезьяньих, так и человеческих призна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635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рдипитек рамид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978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наменс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932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anamen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20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ыл двуноги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большие, обезьяноподобные клыки сочетаются с толстой эмалью зуб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тмечено наличие диастемы (промежутка между зубам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череп еще очень м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длиненн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пальцы длинные и изогнут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 в сухих лесах, использовал предметы естественного происхождения в качестве оруд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92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382840" cy="590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400560" y="928800"/>
            <a:ext cx="574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ustralopithecus afaren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тянутое лицо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разное небо с парралельными друг другу рядами коренных зубов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объем мозга, в среднем составляющий 430 см3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ебольшой сагиттальный гребе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ямохожд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- 105-150 см, вес - 30-45 кг, сильно выраженный половой диморфиз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роение зубов предполагает разнообразную диету без специализации на каком-то одном виде пищевых ресурс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8880" y="2565360"/>
            <a:ext cx="3573360" cy="4105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932360" cy="32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0"/>
            <a:ext cx="73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втралопитек афар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3250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Австралопитек бахрелджазал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3452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opithecus bahrelghaz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строении челюсти и зубов имеется весьма большое сходство с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arens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ичие предкоренных зубов 12 трех корней, в отличие от 1-2 корней у афаренс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фр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887640" cy="240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9671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052640"/>
            <a:ext cx="5292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более округлый череп по сравнению с предыдущим видом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сагиттального гребня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лыки меньшего размера, чем у афарского австралопитек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сутствие диастемы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лицо не так выдается вперед, как у афарског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мозг по объему схож с мозгом гориллы, средний объем мозга колеблется в пределах 440-480 см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испособлен к прямохождению и брахиаторст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ост - 115-140 см, вес - 30-40 кг, половой диморф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Южная Африк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треблял как растительную, так и животную пищу, легко приспосабливаясь к любым изменениям кормовых ресурсов. Не умели охотиться, занимались собирательством и падальничеств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3978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816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485960" cy="561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888000" cy="3560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тралопитек африкан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2835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встралопитек гахр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403380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3640" y="1289160"/>
            <a:ext cx="414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больш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га - 450 см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ытянутое лицо, строение зубов и наличие диаст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рупные коренные и предкоренные зуб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имеется сагиттальный греб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Где были найде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останк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тапы эволюци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4619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5148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Australopithecus bois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зинджантроп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череп приспособлен для пережевывания твердой пищ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сагиттальный гребен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крупные челюсти, небольшие клыки и резцы, крупные предкоренные и коренные зуб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толстая зубная эма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ост 1,2 - 1,4 м, вес - 30-50 кг, значительный половой диморфиз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ъем головного мозга - 410-530 см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мощное строение скелет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тносительно длинные ру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сточная Афр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битали в сухих травянистых саваннах. Питались твердой растительной пищей. Практиковали собирательство. Возможно, использовали каменные орудия труда, грубо обработанные, без определенной фор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251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21440" cy="547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0"/>
            <a:ext cx="46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индж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876480" cy="4033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319640" y="836640"/>
            <a:ext cx="46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ustralopithecus robus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ощное развитие жевательной мускулистой систе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громные челюсти, большие предкоренные и коренные зубы с толстой эмаль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имел круглое лиц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зга 520 см. куб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рост 110 – 130 см, вес 30-40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меренный половой диморф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жная Афр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потребление орехов и зе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, умел изготавливать простые костяные орудия, c помощью которых извлекал терми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26240" cy="554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272360" cy="5569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87640" y="0"/>
            <a:ext cx="3394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бусту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770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еловек умелы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825800" cy="4414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19640" y="981000"/>
            <a:ext cx="392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V мозга  около 670 см3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руглая голова, более плоское лиц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величение поля Брока в головном мозге, которое отвечает у людей за реч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итались более мягкой пищей, чем их предшественни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линные руки и короткие н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20-130 см. Вес – 20-40 к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вуногая локомо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и Юж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готавливали примитивные орудия труда, занимались собирательств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4475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27240" cy="261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456000" cy="2255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4560" y="136044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зга - 90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– 1.5 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ыпрямленное положение на полусогнуты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хаическим строением черепа (толстые стенки, низкая лобная кость, выступающие надглазничные валики, скошенный подбородо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ия, остров Я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732120" cy="496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4576680" cy="504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187280" y="1052640"/>
            <a:ext cx="6624720" cy="5591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5640" y="189000"/>
            <a:ext cx="4475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итекантро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961080" cy="37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767120" y="1360440"/>
            <a:ext cx="43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ост взрослых особей - около 1 мет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ъем головного мозга - 38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ередвигались на двух ног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глубоко посаженные глаза, плоский нос и выступающая вперед челюсть с крупными зуб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-в Флорес (Индонез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дели огнем и создавали довольно совершенные каменные орудия труда. Возможно, охотились на крупных живот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938320" cy="587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132000" y="0"/>
            <a:ext cx="3394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Хобби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133880" cy="5399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052640"/>
            <a:ext cx="408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бъем мозга - 1200 - 1750 см3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150 - 170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более короткие конечности тела по сравнению с современным человек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коренастое, крепко сбитое тело с массивными мышцами, малая площадь поверхност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вропа, Ближний Восток, Кавказ, Крым, Средняя Азия, Узбекист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ли добывать огонь. Питались почти исключительно мясом, Появились первые мистические/религиоз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450280" cy="1029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звание Существа        Время существования (лет до н.э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 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egypt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4 – 3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Parapithecus, propliopithecus &amp; plio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Proconsul african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 - 2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fr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iva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1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Dryopithe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 - 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Ramapithecu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 - 1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 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Pierolapithecus  catalaun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ahelantropus tchad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– 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Orrorin tugen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Ardipithecus kadabb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8 – 5.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rdipithecus ramid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,5 – 4.4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ustralopithecus anam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2 – 3.9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Australopithecus afarensis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Kenyanthropus platyor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Australopithecus bahrelghazal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5 – 3.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Australopithecus african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 – 2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Australopithecus gahr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Australopithecus aethiopic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7 – 2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Australopithecus boisei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5 – 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Australopithecus robus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 –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Homo habil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4 – 1.3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3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Homo rudolf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,4 – 1,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4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Homo georgicu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Homo ergast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1.8 - 1.5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6"/>
              </a:rPr>
              <a:t>Homo erect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6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7"/>
              </a:rPr>
              <a:t>Homo antecess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8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8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28"/>
              </a:rPr>
              <a:t>Те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00 – 7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29"/>
              </a:rPr>
              <a:t>Homo heidelberg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– 2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0"/>
              </a:rPr>
              <a:t>Sinanthropo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00 – 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1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1"/>
              </a:rPr>
              <a:t>Pithecanthropu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2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2"/>
              </a:rPr>
              <a:t>Вертешселлеш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3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400 - 30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3. 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4"/>
              </a:rPr>
              <a:t>Атлантроп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360 тыс. л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4. 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5"/>
              </a:rPr>
              <a:t>Петралонский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6"/>
              </a:rPr>
              <a:t>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250 -150 тыс.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5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7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38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39"/>
              </a:rPr>
              <a:t>floresensis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 – 11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6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0"/>
              </a:rPr>
              <a:t>Homo sapiens neanderthalens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30 – 27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с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7. 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1"/>
              </a:rPr>
              <a:t>Homo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2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3"/>
              </a:rPr>
              <a:t>sapiens</a:t>
            </a:r>
            <a:r>
              <a:rPr b="0" lang="ru-RU" sz="1600" spc="-1" strike="noStrike" u="sng">
                <a:solidFill>
                  <a:srgbClr val="99ff66"/>
                </a:solidFill>
                <a:uFillTx/>
                <a:latin typeface="Arial"/>
                <a:hlinkClick r:id="rId44"/>
              </a:rPr>
              <a:t>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Arial"/>
                <a:hlinkClick r:id="rId45"/>
              </a:rPr>
              <a:t>sapie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0 тыс. лет и до наших дн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0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101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101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01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1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01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01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01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627800" cy="5805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6048720" cy="58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40000" y="0"/>
            <a:ext cx="512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еандерта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6911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маньоне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41720" cy="4968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43280" y="1484280"/>
            <a:ext cx="419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Характерист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лосложение кроманьонцев было менее массивным, чем у неандертальце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рост до 180-19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вытянутые «тропические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порции т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реп высокий, прямой и более гладкий лоб, выступающий подбород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фрика,  Европа, Россия,  Укра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580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рост - 160-185 с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длинные, тонкие конечности, большая поверхность те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средний объем мозга 1400 см3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уплощенный, высокий, почти вертикальный лоб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иболее ранние находки - Африка, примерно 40-35 тысяч лет т.н. начал расселяться по всей планете, вытесняя более примитив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66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784760" cy="523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6707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временные люд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ющим  шагом на пути от обезьяны к человеку явилось прямохождение. Одна из групп обезьян, живших 10 – 12 млн. лет назад, дала начало ветви, ведущей к челове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6214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56000" y="-360"/>
            <a:ext cx="5410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Египт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иптопитек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gyptopithec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вымерш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маты, жили около 38 миллионов лет назад. Останки были найдены в Егип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995640" cy="3762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3174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84360" y="-360"/>
            <a:ext cx="3827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820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ой человекообразной обезьяны, обнаруженный на территории Файюмского оазиса в 1911 году немецким ученым О.Шлоссером. Считается предшественником проплиопит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492280"/>
            <a:ext cx="3959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предположение, что парапитек - начальная стадия в эволюции человекообразных обезьян и человека. Некоторые  антропологи напрочь отрицают саму возможность отнесения парапитека к примат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2486160"/>
            <a:ext cx="43196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48355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339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лиопите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вид ископаемых человекообразных обезьян. Останки нижней челюсти были обнаружены в Файюмском оазисе (Египет) в слоях нижнего олигоцена вместе с останками парапитека. По строению зубов проплиопитек близок парапитеку и, возможно, является предком плиопит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84000" y="-360"/>
            <a:ext cx="3754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968720" cy="458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1413000"/>
            <a:ext cx="3476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иопит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род вымерших приматов, существовавший в олигоцене и миоцене.  Впервые был обнаружен в 1837 году Э.Ларте на территории Франции. Известен по находкам остатков нижних и верхних челюстей на территории Европы, Азии и Африки. Считается предком современных гиббонов, отличаясь от них рядом примитивных призна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иопит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574880" cy="489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32360" y="1647720"/>
            <a:ext cx="388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Характеристи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лину достигали 60 с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брахиатор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масса тела - 20-35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Где были найдены останки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Европа, Южная Азия, Восточная Афр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66"/>
                </a:solidFill>
                <a:latin typeface="Arial"/>
              </a:rPr>
              <a:t>Дополнительная информация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оятнее всего, обитали на деревьях и питались лесными ягодами и фрук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45:38Z</dcterms:created>
  <dc:creator>Elena</dc:creator>
  <dc:description/>
  <dc:language>en-US</dc:language>
  <cp:lastModifiedBy>Elena</cp:lastModifiedBy>
  <dcterms:modified xsi:type="dcterms:W3CDTF">2009-01-19T20:15:03Z</dcterms:modified>
  <cp:revision>19</cp:revision>
  <dc:subject/>
  <dc:title>Эволюц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2000000000001023620</vt:lpwstr>
  </property>
</Properties>
</file>